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B4D6-82AC-4786-9174-E6200267E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ize:  n = 1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7713-6AEF-4EF0-9E94-9E6A5782F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921D-CF6E-47F6-AE12-B0A9D0E9D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90A6-7390-433A-AF2A-42D05E3CF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5B9B-D362-4DB0-967E-680652C9B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2E97-DB01-49AD-8C31-1214F8513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FCFE-58DA-4246-A633-0CC54098E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0EC5-5AFA-4EEB-A7EE-36C6F1617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4773-74B9-4574-8F82-2B1A8D99E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E9AA-93A6-4FE4-9E10-47293659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1257-5B32-460E-8C37-40815838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B0CB-7F22-4119-9435-26ACF1D7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CDD61-71FF-4A03-848E-C607BAAC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3072A-E01D-4945-83FB-3F0EDF5F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2ED63-EA0A-458D-8B06-4C8DA694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8146-94D9-40FA-A4DE-2B2827D7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7E95-5C2B-4C56-AD05-09AD3B6B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FAC6C-DA5C-40EB-9063-509411BC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81913-C89C-401E-9368-C214680A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01B0-9A78-4719-8E66-167F32795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8945A-A1C2-435B-990E-D124CFA9B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E5C4-F4AC-4859-B04A-E6C07FF9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38EC-78F7-4525-B262-E8C0BC89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6B79-867E-4E53-A0FA-075D46F5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3446-4B7F-4B93-8465-C787399D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63BD-0DB9-4C1B-8DEB-5DCCD0B2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4A4B-3D4C-46F0-A1A6-D413E48C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929F-4F33-4C10-803B-2FA0903E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0F92-9B10-4F1B-91CC-1F7C79E74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CTCamp_PPTart_2B.jpg"/>
          <p:cNvPicPr/>
          <p:nvPr/>
        </p:nvPicPr>
        <p:blipFill>
          <a:blip r:embed="rId3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CTCamp_PPTart_2B.jpg"/>
          <p:cNvPicPr/>
          <p:nvPr/>
        </p:nvPicPr>
        <p:blipFill>
          <a:blip r:embed="rId3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TCamp_PPTart_2.jpg"/>
          <p:cNvPicPr/>
          <p:nvPr/>
        </p:nvPicPr>
        <p:blipFill>
          <a:blip r:embed="rId4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695A-B7D7-4140-908B-8933B442B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TCamp_PPTart_2B.jpg"/>
          <p:cNvPicPr/>
          <p:nvPr/>
        </p:nvPicPr>
        <p:blipFill>
          <a:blip r:embed="rId3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SOFT SKIL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  <a:ea typeface="Arial"/>
              </a:rPr>
              <a:t>Connecting Classroom to Car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 Black"/>
              </a:rPr>
              <a:t>For Exampl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apters 4 and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4 Exercise: Planning the Next Training Meeting (in tea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to research lo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a Word document with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d an Excel worksheet for all lo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d team coordination on formatting, dat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and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 Black"/>
              </a:rPr>
              <a:t>The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apter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ms selected and presented one location to the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d to “dress the par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ed Word, Excel and PP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 Black"/>
              </a:rPr>
              <a:t>Moment of Truth:  </a:t>
            </a:r>
            <a:br>
              <a:rPr sz="3600"/>
            </a:br>
            <a:r>
              <a:rPr b="0" lang="en-US" sz="3600" spc="-1" strike="noStrike">
                <a:solidFill>
                  <a:srgbClr val="808080"/>
                </a:solidFill>
                <a:latin typeface="Arial Black"/>
              </a:rPr>
              <a:t>Student Surv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907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maj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ing, Finance, Advertising, Marketing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ment, C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el and restaura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stry, ge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epreneur /own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profess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tal, speech, medical, 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 Black"/>
              </a:rPr>
              <a:t>Moment of Truth:  </a:t>
            </a:r>
            <a:br>
              <a:rPr sz="3600"/>
            </a:br>
            <a:r>
              <a:rPr b="0" lang="en-US" sz="3600" spc="-1" strike="noStrike">
                <a:solidFill>
                  <a:srgbClr val="808080"/>
                </a:solidFill>
                <a:latin typeface="Arial Black"/>
              </a:rPr>
              <a:t>Student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ere asked to rate topics in terms of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helpfu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ill be in the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6bcf"/>
                </a:solidFill>
                <a:latin typeface="Arial"/>
              </a:rPr>
              <a:t>Resumes and interviewing skil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78f1e"/>
                </a:solidFill>
                <a:latin typeface="Arial"/>
              </a:rPr>
              <a:t>97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omewhat to very helpfu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 Black"/>
              </a:rPr>
              <a:t>Moment of Truth:  </a:t>
            </a:r>
            <a:br>
              <a:rPr sz="3600"/>
            </a:br>
            <a:r>
              <a:rPr b="0" lang="en-US" sz="3600" spc="-1" strike="noStrike">
                <a:solidFill>
                  <a:srgbClr val="808080"/>
                </a:solidFill>
                <a:latin typeface="Arial Black"/>
              </a:rPr>
              <a:t>Student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6bcf"/>
                </a:solidFill>
                <a:latin typeface="Arial"/>
              </a:rPr>
              <a:t>Online persona management, identify theft and cyberstalk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78f1e"/>
                </a:solidFill>
                <a:latin typeface="Arial"/>
              </a:rPr>
              <a:t>88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 Black"/>
              </a:rPr>
              <a:t>Moment of Truth:  </a:t>
            </a:r>
            <a:br>
              <a:rPr sz="3600"/>
            </a:br>
            <a:r>
              <a:rPr b="0" lang="en-US" sz="3600" spc="-1" strike="noStrike">
                <a:solidFill>
                  <a:srgbClr val="808080"/>
                </a:solidFill>
                <a:latin typeface="Arial Black"/>
              </a:rPr>
              <a:t>Student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6bcf"/>
                </a:solidFill>
                <a:latin typeface="Arial"/>
              </a:rPr>
              <a:t>Written communication skills, e-mail/cell/text message etiquet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78f1e"/>
                </a:solidFill>
                <a:latin typeface="Arial"/>
              </a:rPr>
              <a:t>90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 Black"/>
              </a:rPr>
              <a:t>Moment of Truth:  </a:t>
            </a:r>
            <a:br>
              <a:rPr sz="3600"/>
            </a:br>
            <a:r>
              <a:rPr b="0" lang="en-US" sz="3600" spc="-1" strike="noStrike">
                <a:solidFill>
                  <a:srgbClr val="808080"/>
                </a:solidFill>
                <a:latin typeface="Arial Black"/>
              </a:rPr>
              <a:t>Student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6bcf"/>
                </a:solidFill>
                <a:latin typeface="Arial"/>
              </a:rPr>
              <a:t>Team dynamics and generational differen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78f1e"/>
                </a:solidFill>
                <a:latin typeface="Arial"/>
              </a:rPr>
              <a:t>89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 Black"/>
              </a:rPr>
              <a:t>Moment of Truth:  </a:t>
            </a:r>
            <a:br>
              <a:rPr sz="3600"/>
            </a:br>
            <a:r>
              <a:rPr b="0" lang="en-US" sz="3600" spc="-1" strike="noStrike">
                <a:solidFill>
                  <a:srgbClr val="808080"/>
                </a:solidFill>
                <a:latin typeface="Arial Black"/>
              </a:rPr>
              <a:t>Student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6bcf"/>
                </a:solidFill>
                <a:latin typeface="Arial"/>
              </a:rPr>
              <a:t>Presentation skil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78f1e"/>
                </a:solidFill>
                <a:latin typeface="Arial"/>
              </a:rPr>
              <a:t>94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 Black"/>
              </a:rPr>
              <a:t>Some of the Comments </a:t>
            </a:r>
            <a:br>
              <a:rPr sz="3200"/>
            </a:br>
            <a:r>
              <a:rPr b="0" lang="en-US" sz="3200" spc="-1" strike="noStrike">
                <a:solidFill>
                  <a:srgbClr val="808080"/>
                </a:solidFill>
                <a:latin typeface="Arial Black"/>
              </a:rPr>
              <a:t>Related to the Chapter 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need to clean up my online persona – I have pictures out there I’d rather not be public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elped me fix what was wrong with my resume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found things when I “googled” myself that surprised 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me realize that everyone on a team has a different personality but can still contrib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life skills I will use all th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minded me how important basic grammar and etiquette a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diamond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 Black"/>
              </a:rPr>
              <a:t>Moment of Truth:  </a:t>
            </a:r>
            <a:br>
              <a:rPr sz="3600"/>
            </a:br>
            <a:r>
              <a:rPr b="0" lang="en-US" sz="3600" spc="-1" strike="noStrike">
                <a:solidFill>
                  <a:srgbClr val="808080"/>
                </a:solidFill>
                <a:latin typeface="Arial Black"/>
              </a:rPr>
              <a:t>Student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ere asked to evaluate how much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y learn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each chapter’s video epis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6bcf"/>
                </a:solidFill>
                <a:latin typeface="Arial"/>
              </a:rPr>
              <a:t>Resumes and interviewing skil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78f1e"/>
                </a:solidFill>
                <a:latin typeface="Arial"/>
              </a:rPr>
              <a:t>72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derate to tremendous amou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 Black"/>
              </a:rPr>
              <a:t>Last Time We Me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 Skill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78f1e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lls, abilities and traits that pertain to personality, attitude, and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 Skills Are No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78f1e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l or technical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 Black"/>
              </a:rPr>
              <a:t>Moment of Truth:  </a:t>
            </a:r>
            <a:br>
              <a:rPr sz="3600"/>
            </a:br>
            <a:r>
              <a:rPr b="0" lang="en-US" sz="3600" spc="-1" strike="noStrike">
                <a:solidFill>
                  <a:srgbClr val="808080"/>
                </a:solidFill>
                <a:latin typeface="Arial Black"/>
              </a:rPr>
              <a:t>Student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6bcf"/>
                </a:solidFill>
                <a:latin typeface="Arial"/>
              </a:rPr>
              <a:t>What the recruiter does back at the off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78f1e"/>
                </a:solidFill>
                <a:latin typeface="Arial"/>
              </a:rPr>
              <a:t>83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 Black"/>
              </a:rPr>
              <a:t>Moment of Truth:  </a:t>
            </a:r>
            <a:br>
              <a:rPr sz="3600"/>
            </a:br>
            <a:r>
              <a:rPr b="0" lang="en-US" sz="3600" spc="-1" strike="noStrike">
                <a:solidFill>
                  <a:srgbClr val="808080"/>
                </a:solidFill>
                <a:latin typeface="Arial Black"/>
              </a:rPr>
              <a:t>Student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6bcf"/>
                </a:solidFill>
                <a:latin typeface="Arial"/>
              </a:rPr>
              <a:t>Preparing for the first big writing assignment on the jo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78f1e"/>
                </a:solidFill>
                <a:latin typeface="Arial"/>
              </a:rPr>
              <a:t>81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strips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 Black"/>
              </a:rPr>
              <a:t>Moment of Truth:  </a:t>
            </a:r>
            <a:br>
              <a:rPr sz="3600"/>
            </a:br>
            <a:r>
              <a:rPr b="0" lang="en-US" sz="3600" spc="-1" strike="noStrike">
                <a:solidFill>
                  <a:srgbClr val="808080"/>
                </a:solidFill>
                <a:latin typeface="Arial Black"/>
              </a:rPr>
              <a:t>Student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6bcf"/>
                </a:solidFill>
                <a:latin typeface="Arial"/>
              </a:rPr>
              <a:t>Working with a dysfunctional tea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78f1e"/>
                </a:solidFill>
                <a:latin typeface="Arial"/>
              </a:rPr>
              <a:t>83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 Black"/>
              </a:rPr>
              <a:t>Moment of Truth:  </a:t>
            </a:r>
            <a:br>
              <a:rPr sz="3600"/>
            </a:br>
            <a:r>
              <a:rPr b="0" lang="en-US" sz="3600" spc="-1" strike="noStrike">
                <a:solidFill>
                  <a:srgbClr val="808080"/>
                </a:solidFill>
                <a:latin typeface="Arial Black"/>
              </a:rPr>
              <a:t>Student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6bcf"/>
                </a:solidFill>
                <a:latin typeface="Arial"/>
              </a:rPr>
              <a:t>Making an effective presen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78f1e"/>
                </a:solidFill>
                <a:latin typeface="Arial"/>
              </a:rPr>
              <a:t>86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 Black"/>
              </a:rPr>
              <a:t>Some of the Comments </a:t>
            </a:r>
            <a:br>
              <a:rPr sz="3600"/>
            </a:br>
            <a:r>
              <a:rPr b="0" lang="en-US" sz="3600" spc="-1" strike="noStrike">
                <a:solidFill>
                  <a:srgbClr val="808080"/>
                </a:solidFill>
                <a:latin typeface="Arial Black"/>
              </a:rPr>
              <a:t>Related to the Vide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noticed how people acted – what worked and what didn’t.  I don’t think I would have caught it if I didn’t actually se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soon as you walk in the building, you are being evaluated on how you present and carry your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need to be prepared – do my research, dress appropriately, and act professionally if I want to get and keep my jo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need to speak up and not assume that people will know I am qualified just by looking at me or reading my resume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split dir="in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 Black"/>
              </a:rPr>
              <a:t>Students Enjoye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08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me and interviewing skills chapter and videos the m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ut the others received votes as we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split dir="out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 Black"/>
              </a:rPr>
              <a:t>Would We Do It Ag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! We 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 observ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esides what the students said in their comment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 messages were written with more c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veryone knows what an executive summary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business casual attire does not include sneakers, jeans and t-shi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split dir="in" orient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 Black"/>
              </a:rPr>
              <a:t>Career Conn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aught on pretty quick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ze need for advantage in today’s competitive job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ruiter feedback is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 Black"/>
              </a:rPr>
              <a:t>What Industry Thi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7720" y="21337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chnical skills and computer literacy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re assume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 Black"/>
              </a:rPr>
              <a:t>What Industry W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ill sets that inclu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l and written communication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ical thinking 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-solving resourceful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work productively on a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 Black"/>
              </a:rPr>
              <a:t>What Our Students W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ful emplo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itive advantage in today’s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with soft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 Black"/>
              </a:rPr>
              <a:t>One Solution: </a:t>
            </a:r>
            <a:br>
              <a:rPr sz="4000"/>
            </a:br>
            <a:r>
              <a:rPr b="0" lang="en-US" sz="4000" spc="-1" strike="noStrike">
                <a:solidFill>
                  <a:srgbClr val="808080"/>
                </a:solidFill>
                <a:latin typeface="Arial Black"/>
              </a:rPr>
              <a:t>Soft Skills at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kbook and Video Pac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shed by Ceng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 practical guidance with videos and personal reflection “callout box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 Black"/>
              </a:rPr>
              <a:t>Our Experience at </a:t>
            </a:r>
            <a:br>
              <a:rPr sz="4000"/>
            </a:br>
            <a:r>
              <a:rPr b="0" lang="en-US" sz="4000" spc="-1" strike="noStrike">
                <a:solidFill>
                  <a:srgbClr val="808080"/>
                </a:solidFill>
                <a:latin typeface="Arial Black"/>
              </a:rPr>
              <a:t>Northern Arizona Univers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ed “Soft Skills at Work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Intro CIS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 to 1,000 students Fall 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 cover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mes, attire, online persona management, written communication, team dynamics and generational differences, presentation ba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 Black"/>
              </a:rPr>
              <a:t>CIS Course 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urse Co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lecture, part lab (Office 2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ft Skills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d some critical thinking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ered all 5 workbook/video chapters by spacing them out over 15 we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 Black"/>
              </a:rPr>
              <a:t>What Did the Students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d the in-text “personal reflection” bo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ed and critiqued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mpanying vide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ted end-of-chapt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rc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01:08:01Z</dcterms:created>
  <dc:creator/>
  <dc:description/>
  <dc:language>en-US</dc:language>
  <cp:lastModifiedBy>Bright</cp:lastModifiedBy>
  <dcterms:modified xsi:type="dcterms:W3CDTF">2013-08-23T10:19:02Z</dcterms:modified>
  <cp:revision>49</cp:revision>
  <dc:subject/>
  <dc:title>PowerPoint Presentation</dc:title>
</cp:coreProperties>
</file>